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E75-3958-40B8-9905-02E9694C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0F8-01CA-48BA-BED4-954C090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694-AE26-4CEF-A50A-EF26514A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F01-BDD5-40CF-AF5F-95367DD5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ED8-83A0-40AB-A4E7-05A9BE21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D8C-816B-45BF-BC92-8DEE9CE8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774-0CFB-4BAE-9B24-7ECF7DA7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506-F217-43BB-8D87-54516C47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042-58A2-4262-8E81-8B8C27C8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7C0-2E62-4E1B-93F2-23F9216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102-9EAE-41B1-ADA2-C62744F8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FCE-BF18-43F2-9AEA-7EACA26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4CE9-9D72-4D3B-B23B-45DED38CD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ff00"/>
                </a:solidFill>
                <a:latin typeface="Arial"/>
              </a:rPr>
              <a:t>Conversation class 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702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you draw?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hat is hanging on your walls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Create interest/activate sche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Pre teach vo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555640" cy="226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1714680" cy="2676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12000" y="1413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348000" y="4221000"/>
            <a:ext cx="241956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012000" y="3789360"/>
            <a:ext cx="29620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t the Gall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rief description of what you can see in th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hat materials were used and w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y symbolism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period in which the picture was painted and its effect on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uicy details about the artist´s life at tha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Scaffolding/planning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bat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he government really shouldn´t be spending money on aesthetics in the midst of a financial crisis</a:t>
            </a:r>
            <a:br>
              <a:rPr sz="4000"/>
            </a:b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Reflective stage-allows students to respond personally to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87640" y="981000"/>
            <a:ext cx="2881440" cy="2621160"/>
            <a:chOff x="2987640" y="981000"/>
            <a:chExt cx="2881440" cy="26211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2987640" y="981000"/>
              <a:ext cx="2881440" cy="26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2987640" y="981000"/>
              <a:ext cx="2881440" cy="262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14:37Z</dcterms:created>
  <dc:creator>HBeardsworth</dc:creator>
  <dc:description/>
  <dc:language>en-US</dc:language>
  <cp:lastModifiedBy>HBeardsworth</cp:lastModifiedBy>
  <dcterms:modified xsi:type="dcterms:W3CDTF">2011-03-30T18:56:36Z</dcterms:modified>
  <cp:revision>4</cp:revision>
  <dc:subject/>
  <dc:title>Conversation class ideas</dc:title>
</cp:coreProperties>
</file>